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BE6A-914D-4085-A15B-A5A1FA33C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2776-30D7-4D62-90BC-7571C597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31C0-306B-4BBC-A3B2-418B66E7F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F249-3053-4A07-912A-164EEA16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B407-295F-4B64-B918-33B6F1B46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5802-8CF5-40AD-A083-32C33C3E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3462-D88C-4D6C-94F3-73A67CED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9F9F-A0E8-4581-89E2-5D709B03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E09A-20FD-4368-9AD9-53966896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8510-EA00-4A94-9096-CEB343E8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7156-6478-4880-9476-85193AEB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4319-588D-493B-B0E6-EAE3700F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18E9-C12D-4EB8-AAB3-28F690FE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4C13-C642-456F-BCAA-384BB6B3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DE2B-0F57-4A41-B72E-67F7945B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408A-95D7-48F1-9B8A-C53FA2FE9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4D34-8BAC-4487-BB84-440983505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98D2-25A5-4BF3-B5E9-D451B26A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B425-F710-4458-AD46-B26CB224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E4F9-3AA4-4838-8937-446D73BE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91E3-43B6-4526-83FA-C019BBB7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C3A3-EAAA-4807-A920-65FD9985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59FC-91D4-43DF-93C4-D0B6839E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A1C1-4BD4-4161-B7E2-EBE6EAC5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7043-958E-4799-9EE7-486785696FA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CAAC-970F-429C-AE23-1A986858FCC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ive Us A King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(The United Kingdom)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Quarter 5, Lesson 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 Kings 1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pg 107-110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Command By Davi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 Kings 1:28-3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is intentions – Solomon will indeed be Israel’s next king – 28-3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is instructions – anoint Solom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e is to ride in on David’s mu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nounce: “Long live King Solomon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Crowning By Zad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 Kings 1:38-40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High Priest does exactly what David instruct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eat celebration among the people of Jerusal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onijah’s people hear the celeb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onathan, Abiathar’s son, brings the news to Adonija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Compassion of Solom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 Kings 1:41-5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onijah fears for his lif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seeks refuge at the altar of the sacred 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asks for mercy from Solom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lomon grants it as long as Adonijah remains loyal to him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eation Stor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loo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cattering of the peop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Patriarch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Exodu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lderness Wander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quest of the L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udg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ited Kingdo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au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av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Solom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 Brief Survey of the Life of Solom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 Kings 1-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e – David enthrones Solomon as King and crushes Adonijah’s rebell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wo – Solomon deals with the enemies of David and of his kingd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ree- The Lord’s appearing to Solomon and Solomon’s request for wisd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 Brief Survey of the Life of Solom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 Kings 1-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 – Description of Solomon’s offic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ve – Seven = The building of the temp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ight – Solomon’s prayer at the dedication of the temp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ine- Second appearance of God to Solom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 Brief Survey of the Life of Solom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 Kings 1-1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n – Solomon’s wealth and fa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even – Solomon’s marriages and falling away from G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 Brief Survey of the Life of Solom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 Chronicles 1-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lomon’s prayer for wisdom at Gibeon -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ilding the temple and dedication 2-7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orks of Solomon; more information on the temple – 8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isit of the Queen of Sheba; Solomon’s wealth, and his death. -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Rebellion of Adonijah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1 Kings 1:1-53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vid is very frail at 70 yr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dfast and dy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ursed by Abisha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onijah had plans to take the kingd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ttempts to crown himself k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lped by Joab and Abiathar the pries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s all to attend a great celebration/sacrifice at En-rog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92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410080" y="228600"/>
            <a:ext cx="3581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n-rogel Spring: (Job's Well) This spring or well lay just outside the southern walls of Jerusalem, a little over 300 feet south of where the Hinnom and Kidron valleys join. It is today referred to as Job's Well. The name "En-rogel" means "fountain of a traveller" in the Hebrew. The well was used to mark the northern boundary of Judah (Josh. 15:7).  It was here that David's son Adonijah attempted to have himself proclaimed heir to David's throne (1 Kings 1:9).  In response, the prophet Nathan prompted Bathsheba to go to David to have him proclaim her son Solomon as king (1 Kings 1:11-13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3886200"/>
            <a:ext cx="762120" cy="2286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57800" cy="34084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657600" y="2971800"/>
            <a:ext cx="914400" cy="5335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4876920" y="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334120" y="24382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innom Valley from Mount Z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Counterplot By Natha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 Kings 1:11-2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than meets with Bathsheba to counter Adonijah’s plan. 11-2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than meets with David – 22-27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16:24:46Z</dcterms:created>
  <dc:creator>Terry W. Benton</dc:creator>
  <dc:description/>
  <dc:language>en-US</dc:language>
  <cp:lastModifiedBy>Frank D Vines</cp:lastModifiedBy>
  <dcterms:modified xsi:type="dcterms:W3CDTF">2005-07-31T04:41:00Z</dcterms:modified>
  <cp:revision>5</cp:revision>
  <dc:subject/>
  <dc:title>Give Us A King (The United Kingdom)</dc:title>
</cp:coreProperties>
</file>